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ICOCHET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A42-F094-4992-AB60-74A66DC5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44C-84F9-4EAB-A2DC-19C6E365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6FAA-F23C-46FD-B24F-84F7C1BF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6D8-7A8F-4C1A-B699-E4AD37B1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A0E-2C27-4BBA-9610-537618AA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12B-2CDC-4777-B992-6AB91EC0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C34-4FF3-4AC6-B682-801E7805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212-5BFC-47CE-95E5-3BB70EDD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462-BCEE-407E-8791-E0A6EAB2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5D3-B764-4703-ABDE-A08061BF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5AE-B936-4DC3-B460-97A707D9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D594-949E-42B1-9410-D63E182E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A98E-670D-4659-AA3F-9E8ECEC54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RICOCHET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85800"/>
            <a:ext cx="50547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560" y="1676520"/>
            <a:ext cx="7934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"We firmly believe that the on-the-run issues should command a high 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emium in the current environment.  But with very high probability, the 5 1/2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f 8/15/2028 will NOT be the current bond a month from n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Bond/Old Bond spread is currently about 13bp.  The average of this 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round auction is historically about 3bp.  Hence we think that much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emium now assigned to the current bond should be ultimately passed on t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w issue by the expected auction date.  Therefore it makes sense to begin sca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to a reverse roll now, at these levels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pporto del US Treasury bond trader per i clienti Fixed Incom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ldman Sachs, 6th Octob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07732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09480"/>
            <a:ext cx="505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120" y="560520"/>
            <a:ext cx="50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bitraggio nel Mercato US Treasu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31000" y="27936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RMIN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9200" y="642600"/>
            <a:ext cx="83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-the-ru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L’emissione piu’ recente di un Treasury bond relativamente ad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lsiasi  settore (es. segmento 10anni, segmento 30anni) della curva dei rendi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1360" y="1906200"/>
            <a:ext cx="68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urrent Bo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La piu’ recente emissione del US Treasury bo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entennale (spesso abbreviato semplicemente "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Bond"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9920" y="2899800"/>
            <a:ext cx="78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Old Bo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La seconda piu’ recente emissione di un US Treasury a 30 an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8120" y="3619080"/>
            <a:ext cx="88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ond/Old Bond sprea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 La differenza di rendimento (yield) tra l’emissione piu’ rec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 la precedentethe dei Treasuries trentenna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0280" y="4610880"/>
            <a:ext cx="51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is point (bp):  1/10,000  =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/100 * 1%  =  0.0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28600" y="57456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ield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927680" y="723960"/>
            <a:ext cx="4022640" cy="3278160"/>
            <a:chOff x="4927680" y="723960"/>
            <a:chExt cx="4022640" cy="3278160"/>
          </a:xfrm>
        </p:grpSpPr>
        <p:sp>
          <p:nvSpPr>
            <p:cNvPr id="54" name=""/>
            <p:cNvSpPr/>
            <p:nvPr/>
          </p:nvSpPr>
          <p:spPr>
            <a:xfrm>
              <a:off x="5769000" y="134604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65880" y="2768760"/>
              <a:ext cx="142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99280" y="1612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578640" y="1612800"/>
              <a:ext cx="0" cy="1168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17760" y="2832120"/>
              <a:ext cx="19836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/28     5/28    8/2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utti questi Bonds so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el “settore” 30an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lla  yield curv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65760" y="2781360"/>
              <a:ext cx="190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84800" y="2502000"/>
              <a:ext cx="0" cy="495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969160" y="2463480"/>
              <a:ext cx="228600" cy="30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210360" y="2755800"/>
              <a:ext cx="164880" cy="216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61040" y="1612800"/>
              <a:ext cx="0" cy="1168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505640" y="1981080"/>
              <a:ext cx="0" cy="812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5816160" y="1625760"/>
              <a:ext cx="444600" cy="50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2320" y="15368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97680" y="15494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42280" y="1866960"/>
              <a:ext cx="139680" cy="139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7590240" y="1617840"/>
              <a:ext cx="185400" cy="374040"/>
              <a:chOff x="7590240" y="1617840"/>
              <a:chExt cx="185400" cy="374040"/>
            </a:xfrm>
          </p:grpSpPr>
          <p:sp>
            <p:nvSpPr>
              <p:cNvPr id="70" name=""/>
              <p:cNvSpPr/>
              <p:nvPr/>
            </p:nvSpPr>
            <p:spPr>
              <a:xfrm rot="10800000">
                <a:off x="7590240" y="1687680"/>
                <a:ext cx="1234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118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1187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7596360" y="1617840"/>
                <a:ext cx="179280" cy="304200"/>
                <a:chOff x="7596360" y="1617840"/>
                <a:chExt cx="179280" cy="304200"/>
              </a:xfrm>
            </p:grpSpPr>
            <p:grpSp>
              <p:nvGrpSpPr>
                <p:cNvPr id="72" name=""/>
                <p:cNvGrpSpPr/>
                <p:nvPr/>
              </p:nvGrpSpPr>
              <p:grpSpPr>
                <a:xfrm>
                  <a:off x="7596360" y="1617840"/>
                  <a:ext cx="179280" cy="304200"/>
                  <a:chOff x="7596360" y="1617840"/>
                  <a:chExt cx="179280" cy="30420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7596360" y="1617840"/>
                    <a:ext cx="12024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520" y="4"/>
                        </a:moveTo>
                        <a:arcTo wR="10800" hR="10800" stAng="-5489272" swAng="54892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520" y="4"/>
                        </a:moveTo>
                        <a:arcTo wR="10800" hR="10800" stAng="-5489272" swAng="5489272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728120" y="1773360"/>
                    <a:ext cx="47520" cy="17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" name=""/>
                <p:cNvSpPr/>
                <p:nvPr/>
              </p:nvSpPr>
              <p:spPr>
                <a:xfrm flipV="1">
                  <a:off x="7721640" y="1796760"/>
                  <a:ext cx="54000" cy="4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" name=""/>
            <p:cNvSpPr/>
            <p:nvPr/>
          </p:nvSpPr>
          <p:spPr>
            <a:xfrm>
              <a:off x="7834320" y="161136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45920" y="13590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Y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27680" y="723960"/>
              <a:ext cx="4022640" cy="3278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352680" y="1676520"/>
            <a:ext cx="1647720" cy="685800"/>
            <a:chOff x="3352680" y="1676520"/>
            <a:chExt cx="1647720" cy="685800"/>
          </a:xfrm>
        </p:grpSpPr>
        <p:sp>
          <p:nvSpPr>
            <p:cNvPr id="80" name=""/>
            <p:cNvSpPr/>
            <p:nvPr/>
          </p:nvSpPr>
          <p:spPr>
            <a:xfrm>
              <a:off x="3352680" y="1676520"/>
              <a:ext cx="67320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997440" y="1701720"/>
              <a:ext cx="1002960" cy="1904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5640" y="1294200"/>
            <a:ext cx="6473160" cy="2998080"/>
            <a:chOff x="305640" y="1294200"/>
            <a:chExt cx="6473160" cy="2998080"/>
          </a:xfrm>
        </p:grpSpPr>
        <p:sp>
          <p:nvSpPr>
            <p:cNvPr id="83" name=""/>
            <p:cNvSpPr/>
            <p:nvPr/>
          </p:nvSpPr>
          <p:spPr>
            <a:xfrm>
              <a:off x="625320" y="15238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5320" y="34290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160" y="3772080"/>
              <a:ext cx="1326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ond Mat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ann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26400" y="1981080"/>
              <a:ext cx="615204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32" y="1"/>
                  </a:moveTo>
                  <a:arcTo wR="10800" hR="10800" stAng="-5453468" swAng="54534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32" y="1"/>
                  </a:moveTo>
                  <a:arcTo wR="10800" hR="10800" stAng="-5453468" swAng="545346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6520" y="3440160"/>
              <a:ext cx="314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10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30240" y="23623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6832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59040" y="20574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73440" y="19810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5640" y="12942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Y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210920" y="51807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1200" y="4432320"/>
            <a:ext cx="7965360" cy="2272680"/>
            <a:chOff x="151200" y="4432320"/>
            <a:chExt cx="7965360" cy="2272680"/>
          </a:xfrm>
        </p:grpSpPr>
        <p:sp>
          <p:nvSpPr>
            <p:cNvPr id="95" name=""/>
            <p:cNvSpPr/>
            <p:nvPr/>
          </p:nvSpPr>
          <p:spPr>
            <a:xfrm>
              <a:off x="151200" y="4432320"/>
              <a:ext cx="796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l rendimento sull’ "on-the-run" bond a 30anni é piu’ basso di altri bonds simi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&gt; vale di piu’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466280" y="4888800"/>
              <a:ext cx="2575440" cy="1816200"/>
              <a:chOff x="1466280" y="4888800"/>
              <a:chExt cx="2575440" cy="1816200"/>
            </a:xfrm>
          </p:grpSpPr>
          <p:sp>
            <p:nvSpPr>
              <p:cNvPr id="97" name=""/>
              <p:cNvSpPr/>
              <p:nvPr/>
            </p:nvSpPr>
            <p:spPr>
              <a:xfrm>
                <a:off x="1581120" y="6336720"/>
                <a:ext cx="14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Liquidità?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66280" y="4888800"/>
                <a:ext cx="138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ERCHE’ 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84000" y="5284080"/>
                <a:ext cx="245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aturity diversa?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75360" y="5809680"/>
                <a:ext cx="199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iglior Credito?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4210920" y="56998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51240" y="623304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!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90880" y="549360"/>
            <a:ext cx="41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rietà del Bond on-the-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46040" y="1333440"/>
            <a:ext cx="4537440" cy="368280"/>
            <a:chOff x="1346040" y="1333440"/>
            <a:chExt cx="4537440" cy="368280"/>
          </a:xfrm>
        </p:grpSpPr>
        <p:sp>
          <p:nvSpPr>
            <p:cNvPr id="105" name=""/>
            <p:cNvSpPr/>
            <p:nvPr/>
          </p:nvSpPr>
          <p:spPr>
            <a:xfrm>
              <a:off x="2447640" y="1333440"/>
              <a:ext cx="343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id-offer spread piu’ contenuto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46040" y="1424160"/>
              <a:ext cx="736920" cy="239400"/>
            </a:xfrm>
            <a:prstGeom prst="rightArrow">
              <a:avLst>
                <a:gd name="adj1" fmla="val 50000"/>
                <a:gd name="adj2" fmla="val 7695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3920" y="3352680"/>
            <a:ext cx="605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sto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emio di Liquidit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é storicamente stimato circa  3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ora perchè oggi val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3b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chè c’è un extra 10bp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trebbe trattarsi di un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rbitragggi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l Goldman Sachs US Treasury bond trader la pensa così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71600" y="1761480"/>
            <a:ext cx="7066080" cy="642600"/>
            <a:chOff x="1371600" y="1761480"/>
            <a:chExt cx="7066080" cy="642600"/>
          </a:xfrm>
        </p:grpSpPr>
        <p:sp>
          <p:nvSpPr>
            <p:cNvPr id="109" name=""/>
            <p:cNvSpPr/>
            <p:nvPr/>
          </p:nvSpPr>
          <p:spPr>
            <a:xfrm>
              <a:off x="1371600" y="1968480"/>
              <a:ext cx="736560" cy="239760"/>
            </a:xfrm>
            <a:prstGeom prst="rightArrow">
              <a:avLst>
                <a:gd name="adj1" fmla="val 50000"/>
                <a:gd name="adj2" fmla="val 7680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22920" y="1761480"/>
              <a:ext cx="63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i di transazione piu’ bassi per velocizzare e facilitare 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ransazio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371600" y="2437560"/>
            <a:ext cx="4287960" cy="368280"/>
            <a:chOff x="1371600" y="2437560"/>
            <a:chExt cx="4287960" cy="368280"/>
          </a:xfrm>
        </p:grpSpPr>
        <p:sp>
          <p:nvSpPr>
            <p:cNvPr id="112" name=""/>
            <p:cNvSpPr/>
            <p:nvPr/>
          </p:nvSpPr>
          <p:spPr>
            <a:xfrm>
              <a:off x="1371600" y="2514600"/>
              <a:ext cx="736560" cy="239760"/>
            </a:xfrm>
            <a:prstGeom prst="rightArrow">
              <a:avLst>
                <a:gd name="adj1" fmla="val 50000"/>
                <a:gd name="adj2" fmla="val 7680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40280" y="2437560"/>
              <a:ext cx="34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ale di più (=&gt;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yield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iù basso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844720" y="238752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38360" y="293760"/>
            <a:ext cx="36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strategia di arbitra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7320" y="1600200"/>
            <a:ext cx="0" cy="14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4200" y="3022560"/>
            <a:ext cx="142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87600" y="18669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5080" y="307188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/28     5/28    8/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54080" y="3035160"/>
            <a:ext cx="190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73120" y="2755800"/>
            <a:ext cx="0" cy="495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257480" y="2717280"/>
            <a:ext cx="22860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498680" y="3009960"/>
            <a:ext cx="164880" cy="21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104480" y="1879560"/>
            <a:ext cx="444600" cy="5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5440" y="179064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30120" y="1884240"/>
            <a:ext cx="111240" cy="590040"/>
            <a:chOff x="3030120" y="1884240"/>
            <a:chExt cx="111240" cy="590040"/>
          </a:xfrm>
        </p:grpSpPr>
        <p:sp>
          <p:nvSpPr>
            <p:cNvPr id="127" name=""/>
            <p:cNvSpPr/>
            <p:nvPr/>
          </p:nvSpPr>
          <p:spPr>
            <a:xfrm rot="10800000">
              <a:off x="3030120" y="1994400"/>
              <a:ext cx="73800" cy="47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1187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118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034080" y="1884240"/>
              <a:ext cx="107280" cy="478440"/>
              <a:chOff x="3034080" y="1884240"/>
              <a:chExt cx="107280" cy="47844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3034080" y="1884240"/>
                <a:ext cx="107280" cy="478440"/>
                <a:chOff x="3034080" y="1884240"/>
                <a:chExt cx="107280" cy="4784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034080" y="1884240"/>
                  <a:ext cx="71640" cy="47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20" y="4"/>
                      </a:moveTo>
                      <a:arcTo wR="10800" hR="10800" stAng="-5489272" swAng="54892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20" y="4"/>
                      </a:moveTo>
                      <a:arcTo wR="10800" hR="10800" stAng="-5489272" swAng="548927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112920" y="2128680"/>
                  <a:ext cx="2844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 flipV="1">
                <a:off x="3108960" y="2166120"/>
                <a:ext cx="32400" cy="6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3109320" y="2017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880" y="161280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37720" y="9525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G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3200" y="3643200"/>
            <a:ext cx="40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ender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8/28 ( l’attuale bond "on-the-run“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5520" y="3681360"/>
            <a:ext cx="364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i-comprar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8/28 (l’attuale"old" bo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61040" y="1638360"/>
            <a:ext cx="0" cy="14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57920" y="3060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1917720"/>
            <a:ext cx="166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78800" y="3110040"/>
            <a:ext cx="183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/28    5/28    8/28     11/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073320"/>
            <a:ext cx="190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76840" y="2793960"/>
            <a:ext cx="0" cy="495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460840" y="2755440"/>
            <a:ext cx="22860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702400" y="3047760"/>
            <a:ext cx="164880" cy="215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308200" y="1917720"/>
            <a:ext cx="444600" cy="5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94360" y="184140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08760" y="185436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525800" y="1909800"/>
            <a:ext cx="111240" cy="589680"/>
            <a:chOff x="7525800" y="1909800"/>
            <a:chExt cx="111240" cy="589680"/>
          </a:xfrm>
        </p:grpSpPr>
        <p:sp>
          <p:nvSpPr>
            <p:cNvPr id="150" name=""/>
            <p:cNvSpPr/>
            <p:nvPr/>
          </p:nvSpPr>
          <p:spPr>
            <a:xfrm rot="10800000">
              <a:off x="7525800" y="2020320"/>
              <a:ext cx="73800" cy="47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1187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118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7529760" y="1909800"/>
              <a:ext cx="107280" cy="477720"/>
              <a:chOff x="7529760" y="1909800"/>
              <a:chExt cx="107280" cy="4777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7529760" y="1909800"/>
                <a:ext cx="107280" cy="477720"/>
                <a:chOff x="7529760" y="1909800"/>
                <a:chExt cx="107280" cy="4777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7529760" y="1909800"/>
                  <a:ext cx="71640" cy="47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20" y="4"/>
                      </a:moveTo>
                      <a:arcTo wR="10800" hR="10800" stAng="-5489272" swAng="54892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20" y="4"/>
                      </a:moveTo>
                      <a:arcTo wR="10800" hR="10800" stAng="-5489272" swAng="548927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608600" y="2153880"/>
                  <a:ext cx="28440" cy="2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 flipV="1">
                <a:off x="7604640" y="2191320"/>
                <a:ext cx="32400" cy="6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7732080" y="20304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37600" y="165096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0200" y="95256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N MESE DO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243828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65520" y="529416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3040" y="3517920"/>
            <a:ext cx="4079880" cy="230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46440" y="3530520"/>
            <a:ext cx="4137120" cy="230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387320" y="1081080"/>
            <a:ext cx="1800" cy="437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680" y="4132080"/>
            <a:ext cx="35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mprear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5/28 ( l’attuale "old bon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4640" y="4725000"/>
            <a:ext cx="381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rofitto Netto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13bp (poichè l’ on-the-ru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è 13bp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iù costos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dell’ol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nd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01520" y="4163760"/>
            <a:ext cx="35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ender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5/28 (l’attuale "old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ol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n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57320" y="4771080"/>
            <a:ext cx="416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osto Netto: zer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ora il costo dei due bond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 stesso; il premio di liquidità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a sul nuovo bond "on-the-run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35240" y="1803240"/>
            <a:ext cx="127080" cy="140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185436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7T18:07:59Z</dcterms:created>
  <dc:creator>Emma Rasiel</dc:creator>
  <dc:description/>
  <dc:language>en-US</dc:language>
  <cp:lastModifiedBy>User</cp:lastModifiedBy>
  <cp:lastPrinted>1998-10-17T23:37:16Z</cp:lastPrinted>
  <dcterms:modified xsi:type="dcterms:W3CDTF">2006-04-02T09:13:04Z</dcterms:modified>
  <cp:revision>55</cp:revision>
  <dc:subject/>
  <dc:title>No Slide Title</dc:title>
</cp:coreProperties>
</file>